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FFEFED9-734C-449E-AC46-EFAB664D653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E4202BF-2410-4A1B-9D64-DF582DEE39C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3B1DA7A-776B-46F0-ACAF-D9ECAD126A1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A851D2A-FC96-4884-A9F0-A0EB5A0E9A5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4550750-952B-4A32-9846-8D09E499CC1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3DAA9EA-B882-4AA0-823E-5422B37FAE2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27D6562-AD1A-4E3C-84F4-1A09B0FE28F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40B9285-B696-426F-A0F8-4DE7F2B0D79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EB34953-B5FE-4328-80F0-5BEABB7B848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F2937E2-642E-4A22-B7DB-8A05ADC2AAF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9669A53-50E0-4E51-9823-38BA51FDCA0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B1D6D5C-6E2E-496F-96D8-BD27DC35805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7FBDE27-7316-4ECB-B164-7874DEB20F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7A93357-3B30-4A9E-8020-C25B2A62CA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F3DD3E9-8A39-4629-9CB7-65B26CE154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41CD700-2416-4C6F-BE71-91005F4617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282C651-F983-4EBE-972E-0C173914EAF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1737BB5-8603-45E6-9E3A-B6A331BDA4B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C2CB7AD-983F-4C35-A1BD-BC0BCE22254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07B00F3-0F57-4EBD-B646-824A928F4EA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92524AC-44D9-4DF5-AAE0-94EFFDD364B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6921C72-D795-44B6-832F-A27C5591842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443421C-7014-4147-AA54-B8E172D1DD7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F572502-CEA0-49FB-A95A-7CE7C021E4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B7CC243-102F-4333-B185-687EDB90878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CC2FCBC-99A3-4090-8898-475D0F9AC08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A547CDA-E658-4889-B62D-C157A451938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D4EE453-9E60-4608-866F-208F0E63FE9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5EDC4B1-CF5B-4ED1-936B-715EA13CD4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66C4F0-3EFC-4EF9-8F64-F1B45D5DD5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4478408-1C42-44FC-B53A-CE0E92CC9A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06A6D9-4536-4CD1-B387-81D1DB1784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8D3C9A6-5E86-4739-893C-28E26FDA50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520C4A-120A-42E4-B717-43F10B60DB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A466D3-4A0C-470D-99D5-F4943754CC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0623BF-F6FD-4537-AB94-9588BFBFF7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FCA87-C394-40BB-A0E9-766BE110918D}"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FC998-A3CD-4C65-AA43-6A1B2035A00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22D3E7B-ACB1-4812-9302-CA47430728EA}"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023AE89-4D4A-426D-B620-BF4BE6F84359}"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82306D-435B-4936-9038-2ADB2AA32AA5}"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B4A6FBD-7E6E-46AA-BED6-A5357E29DFD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B7AA41D-6163-4FB3-AF45-D9EAA65372C6}"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8405BF0-29D6-47B2-8C4A-4CE127940D2A}"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198FB73-D6CD-4BE4-9641-58B7D74D4971}"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C9243BC-EFBD-40C3-AD69-FC47A66D2292}"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B89F5DE-7944-4580-B8F5-089866F898D3}"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384CEBC-B3C8-4B99-8AA1-735D129AC57B}"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FDE6A2B-D5FE-4AA7-9A2A-D3CB2C699DF7}"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8D94B686-015F-46AE-A074-28395E3BBA83}"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B5DBA6D-CF86-482C-9AB8-1A7CE257DB0B}"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8084FE3-7E7C-4C65-9138-7A9E90D1BCBC}"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E731A0C-4FDA-4AFB-B18B-AC42D468CE0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957D228-10AF-49A1-A5C8-F63A7D17388F}"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F6C521C-21BE-496F-9E2C-276254D41C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DF814A1-9AE6-40AD-86EC-5217757922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4410642-6971-4861-81CA-2F5BA0258BAB}"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034D4E0-09A9-4B84-B0A4-E5CC2BF57D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BFB1E9B-A3AE-456B-BA9E-302E67E34E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8DCE8D-10BA-4F5D-8DCA-4EC74B9593C0}"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2341506-4FAD-4C48-BA6A-2B1D464BBE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CEEFFF7-2A8B-4283-A21A-26610A73B0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7F37224-4960-47A5-8236-6C2E2E4E27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ADDAC2A-5E2C-415A-8FB7-5332C4D3B6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F4F3234-0DA7-4057-B9FD-A70A2A44C6F6}"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86E4419-AC70-4BF0-AB76-A24A9DA07D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207573F-553A-4F94-9568-9B35AA8237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159C7B1-C495-4629-9581-13D8E4431241}"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D28943-F827-42EF-A248-C3EB1B4D921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F0A700E-B632-4394-B02A-B7B0EA412E1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0C58A4F-D2EE-4C1B-8EA9-A6D508ECA44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54C32DB-077D-42BA-B7A1-51266BCE77D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F0D094E-407E-444C-9B38-E1BAB6CB737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9508D0F-B370-4DAD-AB96-D5D52E3BE16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1F15A23-59A9-4349-82A9-9A7C9BB94F9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5A3E47F-77BA-4639-8E18-8E7248855BA5}"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309A8C4-9D68-4C1D-B4AD-1762DFD732B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869362D-E819-4832-B0A2-3C318D5F6C4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233FBDD-E92A-4CB4-AC2E-BE235CFE084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6313BFB-1A2E-4FCB-A363-1FEAE8E7D118}"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1D21164-A5F8-4897-BD3B-17D37CC7C760}"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053A043-28B5-49C4-A1E2-6619357F979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5C41EAF-E203-4B49-AD39-88598B856D9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0C4EA4D-BA81-42DD-BD25-A60B090BB6D9}"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8A0747F-4CAA-46C4-A797-AD983179C367}"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AF68C1-EB0E-411C-9761-047E8C00FE2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0451E7C-B494-42B7-9A0A-D36DEFC02EB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4EFB716-E0C8-4161-BD71-3C4B0EB4E1E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DD430DB-85F7-43A0-A290-98C318C1B60D}"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BC242E5-4862-4DAE-B317-613F85EBCA4A}"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9C04208-7893-4E42-A6BB-E82F7DEBA9E4}"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4074450-4B69-416F-AA9D-8316703BF35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030D490-AAF3-4010-8049-FBA0D4A17CCD}"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F50EB47-2DA9-4418-A6DA-7FE33989B222}"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3D04364-700A-4C6F-9A2F-D71F14613FFA}"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00FD4C2-A418-4A4A-B380-6C1CF66453B1}"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39C6303-17BA-41C3-8968-B653E0B299F8}"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69FB9D8-0B11-48D0-8D14-F79F3792E29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BBB6AAE-B1F9-4D2F-9474-ECAD54B10E51}"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6901BF8-CD7E-4973-9A65-5B17A8FC2F11}"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E3683DD-15D5-43CB-9EA3-670528C41EED}"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5D1159F-5674-483D-9F0A-191E39E26883}"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BD734CC-67C1-4D3F-A6C5-0F9C7D4649C5}"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C539DDA-D7C4-4C64-BBF7-A21892A32331}"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9914D4A-34A0-409B-996B-771B7AC29C53}"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E058987-1FD5-4215-802C-6B357B72FB28}"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73B242B-7E51-45A7-B9E1-48D761092572}"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FE81936-2521-4037-BD80-CDDBDACC748B}"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27D2A8-7292-4CDA-B6FA-246CC6F68BBC}"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4360B1-65FD-459C-BB61-8F447FF21C5E}"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BA4F30C-70DD-494A-A4F7-0E644A21D0CB}"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13E141D-B2D1-4F60-92E4-01DF1082201C}"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A95B7D8-4E7B-4867-8199-685795FB7FC0}"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62589D6-21D6-47B9-B11C-785749BFDC00}"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B93D04A-8089-4632-8A4B-8C5BE6105EB2}"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FFF172C-E9C7-459C-987D-0E76890694B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1A38F52-1B98-48C2-8CCA-A43B36EFA6DC}"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D601A98-B368-4660-AFDB-7F81E35188F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EF94593-9D52-4CFA-A306-60D3B29A6A52}"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8CD87F3-5F46-4643-B76B-D88B0F40F64E}"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3495B98-8E54-4CA7-8770-C6A9CBF78EC5}"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979C991-BF63-484D-AD7C-08AACDA3CC0E}"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C0833E-5708-4CEF-96C5-9E87554A0ED8}"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46A2B0B-8A9E-4CF4-A573-75E603BDF175}"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A18649E-799F-47FD-B81F-BE5EBA153868}"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6F5E070-2054-456E-BF1C-3C897C7698A2}"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472601E-9AE0-4E40-BF3F-2DAFC982503B}"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94608CF-9454-4F72-9B0A-D67C14FCADDD}"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417DDE5-4226-4215-A7EA-EA029917CFC4}"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0BEE66F-470D-4350-83DA-CAFFE11E562A}"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FA9593-B728-4DD1-8E0F-AFE2DE049387}"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0250E9C-2C95-4971-B52D-31C8BE1EA99E}"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ABD9C4F-88AF-45FD-BF8C-0D6E44D8229B}"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CB1CC06-FA4E-4A10-B168-DC5A4225D6A8}"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9C7B82C-343A-4319-B940-41CE82127284}"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2BEF2B9C-2184-44C1-AD72-A6EE457D7B35}"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86FF6C3-5B28-4475-B27B-0B1360506465}"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2A1D913-97BE-4B10-B6CF-0DE1AF78AF17}"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5A11174-ACB1-40CA-872F-B328BF050571}"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F6513FE-BED8-4431-8A58-C7CD021E9B43}"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9C198BC-45DF-4BA6-B147-94AA4360231D}"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7BE2E13-F2B6-42C6-A317-7EA1A0A37B08}"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BA5946B-5DAD-47E4-8E80-3874A2463DA8}"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49FFAEF-4E9D-4032-AB25-3AACF22C8EE4}"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2562F0E-CCA2-4A9E-8D59-7262C733703D}"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E265CC6-D56A-4238-B2D6-A8AACB018BAF}"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A227B79-6627-4302-A8C0-16754301AA5A}"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71691BF-D6B6-4029-A342-15314E1305C0}"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BA87A09-D88E-4E74-9716-13A2940896A4}"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